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A2E1-8683-42BC-81F3-B70580922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healthadviceonline.biz/elken-mrt/step-4-health-regulation/the-organ-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www.knowledge.allianz.com/demography/health/?696/medical-breakthroughs-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nationalgeographic.com/science/photos/human-body-upgrad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morylossonline.com/glossary/magneticresonanceimaging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arcaro.wordpress.com/11th/biology/the-cell-and-system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ebmd.com/heartburn-gerd/your-digestive-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iseasespictures.com/circulatory-syste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myhealth.alberta.ca/health/pages/conditions.aspx?hwid=ug2841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wo-views.com/X-RAY/Typ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www.amberusa.com/equipment_ct_scanner.a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ytalk1.com/ct-scan-technolog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4EE-B267-4F1B-8824-26A032DD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461-E39D-4E46-879C-A29189D1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63D9-5188-45B6-991A-67458430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DC61-262B-404A-9FC5-52238E93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EB9-AB95-4121-8F6B-5F5EAAE6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F83B-74F3-4A3F-8FE3-C0BC0159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01A0-896A-4AD9-A536-ABF17921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E908-C9F4-4C90-89EF-3D4B25CF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DC40-E68D-4B5E-A4ED-83C6EB21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E4D9-EED8-4998-A1F3-D96860A4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3D0-93C4-4DE9-897F-54C66B9A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6D84-396A-47A8-ACAA-37E9229F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3650-8CE7-4B51-A752-DA317930F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ar Im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46360" y="1981080"/>
            <a:ext cx="5649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netic Resonance Im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s, tissues, orga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organized in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ssu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re organized in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thelial, connective, muscle, nerv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ch are organized in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ch, kidneys, hear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7680" y="1981080"/>
            <a:ext cx="6848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51040" y="1981080"/>
            <a:ext cx="384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4560" y="1981080"/>
            <a:ext cx="4573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15880" y="1981080"/>
            <a:ext cx="6310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36760" y="1981080"/>
            <a:ext cx="2668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T S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90760" y="1981080"/>
            <a:ext cx="4361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7:04:00Z</dcterms:created>
  <dc:creator>rubina khan</dc:creator>
  <dc:description/>
  <dc:language>en-US</dc:language>
  <cp:lastModifiedBy>rubina khan</cp:lastModifiedBy>
  <dcterms:modified xsi:type="dcterms:W3CDTF">2012-11-21T17:32:19Z</dcterms:modified>
  <cp:revision>13</cp:revision>
  <dc:subject/>
  <dc:title>Organ Systems</dc:title>
</cp:coreProperties>
</file>